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CC8-A7ED-44E1-BC21-9159F6AE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054-7E71-4932-A0CB-12F6E310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DE9-01EE-4376-A455-7243F2E2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55B-6160-4DE0-B48B-D0F5231D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E01-EF39-488B-A370-2A192A8D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278-C570-454D-BB57-A907C4F6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8ED-90D2-4043-9596-F4F91981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26F-EC5C-444D-921F-8E278A1D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FFA-2AFE-4CB0-AECA-BF2878E0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9A0-9409-4124-A007-E396645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7A9-874B-46F3-AE65-16839088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630-12D6-4BEC-9E09-4ED101B9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B6F6-2F09-46F9-8436-041D954E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54D4-01B6-4D0B-B942-C0ED43231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116000" y="620640"/>
            <a:ext cx="732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1" lang="sr-R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ФЛИКТ И МЕНАЏМЕНТ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1071720" y="2928960"/>
            <a:ext cx="73278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ма њиховим актерима и ниво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актери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нивои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 и груп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 и орган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рган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B133-532E-4403-A627-CE27D3A6E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126040" y="2852640"/>
            <a:ext cx="299412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персонални) се дешава у оквиру замишљања себе као личности (циљева, вредности, става, интереса, знања), односно између самог себе и своје улоге (када је особа несигурна који рад треба да изврши, кад су захтеви посла контрадикторни са другим захтевима или када особа очекује да учини више него што је способн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е између особ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персонални) у самој организацији се најчешће појављују због личних/персоналних разлика унутар, али и између група. Често ови конфликти настају због различитог гледања на улогу посла између менаџера и подређе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 и гру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јчешће дешава због начина како појединац решава притисак који се врши на њега од стране његове радне гру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FBF9-8940-4949-8063-366C6AEC8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ј организацији је честа врста конфликта. У здравственој установи могу постојати групе сестара, техничара, лекара, специјалиста, администратора, које због својих различитих гледања и специфичности и одговорности могу да доведу до конфлкта у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између организ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настати због стручно-техничких ривалстава, али и због економских разлога. Овакав конфликт, назван компетиција или ривалство, ствара се када једна од организација развије нове технологије, постиже боље и ефикасније резултате и ефективније ради и користи доступне ресур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D3BB-B66A-4803-928B-C669E519B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према фаз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у односу на нивое рада и руковође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ни конфликти настају између различитих нивоа рада и руковођења у организацији. Такви су конфликти најчешће између надређених и подређених, нижег и вишег нивоа менаџмента и слич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зонтални конфликти настају између појединаца или група у оквиру истог нивоа у организационој хијерарх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у односу на карактер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руктивни конфли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и конфли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7ED0-439E-473E-88B1-AC76B1D00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КОНФЛИКТА У ЗДРАВСТВЕНИМ УСТАНОВ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06028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привржености/оданости вишим, односно општим циље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 оптиматизација многоструких циље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асноћа/двосмисленост у основним циље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по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толеранције двосмисле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ворни одно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а специјализација и многоструки ауторит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CE60-2281-4F1D-A4E0-59BCC176A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8064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и већи значај и обратити већу пажњу хуманом делу система у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и циљеве и потребе чланова организације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само организациј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смањењу разлика међу “класама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ти климу за разумевање и цењење рада друг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жати неформалне норме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е акције и повер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ирати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је могуће више “културу саморегулисања”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ање “ауторитетом регулисану културу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ити ексцесиван вишак специјализ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ити власт и утицај на одлучивање са нижим нивоима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вирати и експериментисати са новом праксом и процедурама у ора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чети интервенције са структурама и процесима у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9337-A772-44CA-B6E1-F492FBAFA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здравствени руководилац приступа решавању конфли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ћати посебну пажњу на чланове који “праве проблеме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јасно артикулисаној комуник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сно дефинисати “надредђени” ци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ти природу унутар зави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ити и преузети ризик предложених про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и ауторитет и “власт” кад је потреб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и деловања “зараћених” стр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изградњи заједничког повере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заједничком прихватању сатисфакције и мотив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стварању емпатије према другој стра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6AC9-DD97-4AEE-868F-8F9A842C1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иступ управљања конфликтима укључује следећих пет стилова управљањ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ва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итативно командо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ађивање ситуације и прилагођа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жење компромисних реше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о решавање пробл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2F9A-CD71-4163-9936-F89B3B645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1916280"/>
          <a:ext cx="8229600" cy="3638520"/>
        </p:xfrm>
        <a:graphic>
          <a:graphicData uri="http://schemas.openxmlformats.org/drawingml/2006/table">
            <a:tbl>
              <a:tblPr/>
              <a:tblGrid>
                <a:gridCol w="801720"/>
                <a:gridCol w="1657080"/>
                <a:gridCol w="5770800"/>
              </a:tblGrid>
              <a:tr h="460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МО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ГЛАВНЕ КАРАКТЕРИС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5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E-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 не постиже жељено и узроци конфликта остају неистражени, а конфликт само делимично или привремено реш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-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ктеристичан је у случајевима када једна група остварује своје жеље на рачун друге групе, искључујући на тај начин остврење њихових жеља. Ово су чести сучајеви у условима где постоји конкур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9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-W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ај метод подразумева директно упуштање у решавање проблема конфликтне ситуације, изналажење правих узрока и доношење оптималне одлу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E6DB-7364-47CB-AD6D-0C1C97BAA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и приступ управљања конфликтима узима у обзир његове позитивне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методе управљања конфли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6F8F-0A10-4FC9-A26B-01277E83B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6766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учавања овог поглавља ћете бити у могућности 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, врсте и значај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е, фазе и врст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зитивне и негативне аспект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актеристике конфликта у здравственим организациј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уј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нквенце и могућност спречавањ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упак за управљање/решавање конфки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E1B2-85AD-46AA-AEAA-784E8DFFD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весним ситуацијама, када конфликт може да буде користан, менаџер може да стимулише конфликт, али да га у исто време држи под контрол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они методи најчешће укључу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ђење људи са стр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информациј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руктуирање организ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и ривал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одговарајућих менаџ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A6D0-F6B2-429A-92F4-06A0B2E81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9782-E23C-4A40-B5C2-B79018F6B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конфликт дошао у фазу да свако његово одлагање може произвести озбиљне последице по организацију, примењују се методе решавања конфликта. У том случају мора се радити директно са конфликтним лицима, груп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 се следећа три конфликтна мето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итет/власт и обустава/савлађи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о решавање пробл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1F59-EAA5-44FC-B01C-A314B5450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И ЗНАЧАЈ КОНФЛИКТА ЗА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се може посматрати као облик супротстављања двеју опречних страна; он се заснива на несагласности циљева, жеља или вредности супротних страна…у њему једна страна контролише циљеве и објекте које желе обе стране”.                                                        Stern 19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произилази из неслагања са оп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 циљевима које треба остварити у организацији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и или са методама које се користе да би се циљеви постигли.                                                         Kenneth W. 19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nis Coon,1986. повезује конфликт са интерперсоналним односима и сматра да је конфликт стање у коме постоје два (или више) јака мотивациона шаблона, који не могу бити задовољени заједно у исто вр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Stoner and Ch. Wankel, 1986. везује конфлик са функцијом организације и сматра да се конфликт мора посматрати са компетицијом и коопера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8748720" y="6392880"/>
            <a:ext cx="287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39BE-78E7-429C-B989-253F5B08F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И ЗНАЧАЈ КОНФЛИКТА ЗА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3" descr=""/>
          <p:cNvPicPr/>
          <p:nvPr/>
        </p:nvPicPr>
        <p:blipFill>
          <a:blip r:embed="rId1"/>
          <a:stretch/>
        </p:blipFill>
        <p:spPr>
          <a:xfrm>
            <a:off x="628560" y="1554120"/>
            <a:ext cx="7581960" cy="4876920"/>
          </a:xfrm>
          <a:prstGeom prst="rect">
            <a:avLst/>
          </a:prstGeom>
          <a:ln w="0">
            <a:noFill/>
          </a:ln>
        </p:spPr>
      </p:pic>
    </p:spTree>
  </p:cSld>
  <p:transition advTm="5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И ПОГЛЕД НА КОНФЛ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бежан па чак и потребан, без разлике како су организације установљене и како ра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флик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им делом нефункционалан  и може да штети појединцу, али и да спречи постизање циљева организације. Али, неки конфликти могу бити и функционални, зато што могу да утичу на организацију да она буде ефективн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ња која траже одговоре и заузимање става према конфликту,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конфликт у организацији пожељан или непожељ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се он догађ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осебан феномен у здравственим организација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достиже неку значајност и захтева специјалну пажњ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здравствени руководилац може да уради на то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 на ова питања омогићиће руководиоцу да решава или управља конфликтима у својој организацији/устан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8459640" y="6381720"/>
            <a:ext cx="360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82D1-FA48-48A8-8C2B-5FBBE2A25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ЕКТИ КОНФЛИКТА: ПОЗИТИВНИ И НЕГАТИ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су најчешће виђени негативно. Сматрају се штетним, доприносе “нереду у једном систему” и утичу на стварање губитака у хуманим напорима и средствима. Конфликти отежавају, уништавају хумане активности у једној хуманој организа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валство и конфликт имају продуктиван потенцијал. Они спречавају стагнацију, стимулишу интерес, узнемирују “исто стање”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ју прилику за тестирање нечијих могућности и прилику да процене нечију “силу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гу и моћ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могу бит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руктив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бог емоционалне нетрпељивости или неслагања са циљевима или методама рад) ил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да омогућавају повећање појединачних креативних капац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1BDC-AB97-4B88-8147-708E7CCD9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И ЕФЕКТИ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ADC3-E01C-4FBD-842F-717D471B1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3"/>
          <p:cNvSpPr/>
          <p:nvPr/>
        </p:nvSpPr>
        <p:spPr>
          <a:xfrm>
            <a:off x="395280" y="1844640"/>
            <a:ext cx="2717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игнорисаних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"/>
          <p:cNvSpPr/>
          <p:nvPr/>
        </p:nvSpPr>
        <p:spPr>
          <a:xfrm>
            <a:off x="395280" y="2549520"/>
            <a:ext cx="2717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 сагледавање супротних ст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5"/>
          <p:cNvSpPr/>
          <p:nvPr/>
        </p:nvSpPr>
        <p:spPr>
          <a:xfrm>
            <a:off x="395280" y="3303720"/>
            <a:ext cx="269100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ледавање нових идеја и прист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9"/>
          <p:cNvSpPr/>
          <p:nvPr/>
        </p:nvSpPr>
        <p:spPr>
          <a:xfrm>
            <a:off x="422280" y="414036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бољих од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0"/>
          <p:cNvSpPr/>
          <p:nvPr/>
        </p:nvSpPr>
        <p:spPr>
          <a:xfrm>
            <a:off x="422280" y="5049720"/>
            <a:ext cx="2690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лојалосности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1"/>
          <p:cNvSpPr/>
          <p:nvPr/>
        </p:nvSpPr>
        <p:spPr>
          <a:xfrm>
            <a:off x="6012000" y="184464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 стагн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12"/>
          <p:cNvSpPr/>
          <p:nvPr/>
        </p:nvSpPr>
        <p:spPr>
          <a:xfrm>
            <a:off x="6012000" y="2600280"/>
            <a:ext cx="2736720" cy="525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интер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3"/>
          <p:cNvSpPr/>
          <p:nvPr/>
        </p:nvSpPr>
        <p:spPr>
          <a:xfrm>
            <a:off x="6012000" y="3313080"/>
            <a:ext cx="2736720" cy="6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емирује”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14"/>
          <p:cNvSpPr/>
          <p:nvPr/>
        </p:nvSpPr>
        <p:spPr>
          <a:xfrm>
            <a:off x="6012000" y="414036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 услове за пром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5"/>
          <p:cNvSpPr/>
          <p:nvPr/>
        </p:nvSpPr>
        <p:spPr>
          <a:xfrm>
            <a:off x="6012000" y="500688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а процена могућности “моћ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16"/>
          <p:cNvSpPr/>
          <p:nvPr/>
        </p:nvSpPr>
        <p:spPr>
          <a:xfrm>
            <a:off x="4211640" y="1557360"/>
            <a:ext cx="720720" cy="41036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4103640"/>
              <a:gd name="textAreaBottom" fmla="*/ 4068720 h 4103640"/>
            </a:gdLst>
            <a:ahLst/>
            <a:rect l="textAreaLeft" t="textAreaTop" r="textAreaRight" b="textAreaBottom"/>
            <a:pathLst>
              <a:path w="21600" h="122936">
                <a:moveTo>
                  <a:pt x="3600" y="0"/>
                </a:moveTo>
                <a:arcTo wR="3600" hR="3600" stAng="16200000" swAng="-5400000"/>
                <a:lnTo>
                  <a:pt x="0" y="119336"/>
                </a:lnTo>
                <a:arcTo wR="3600" hR="3600" stAng="10800000" swAng="-5400000"/>
                <a:lnTo>
                  <a:pt x="18000" y="122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НФ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iagram 1" descr=""/>
          <p:cNvPicPr/>
          <p:nvPr/>
        </p:nvPicPr>
        <p:blipFill>
          <a:blip r:embed="rId1"/>
          <a:stretch/>
        </p:blipFill>
        <p:spPr>
          <a:xfrm>
            <a:off x="304920" y="822240"/>
            <a:ext cx="8534160" cy="5718240"/>
          </a:xfrm>
          <a:prstGeom prst="rect">
            <a:avLst/>
          </a:prstGeom>
          <a:ln w="0">
            <a:noFill/>
          </a:ln>
        </p:spPr>
      </p:pic>
    </p:spTree>
  </p:cSld>
  <p:transition spd="slow" advTm="191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ма извору, односно узроку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конфлик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у субјективно изазвани због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их међуљудских односа у радној групи или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них лоших/негативних структура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гласности у неким значајним ситуацијама (ставови, мишљења, интерес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конфлик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ни који су најчешће објективно детерминисани услед разних организационих, технолошких или економских пробле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8A19-17DC-4568-9906-2628FD469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9:12:54Z</dcterms:created>
  <dc:creator>Banka</dc:creator>
  <dc:description/>
  <dc:language>en-US</dc:language>
  <cp:lastModifiedBy>Majda</cp:lastModifiedBy>
  <dcterms:modified xsi:type="dcterms:W3CDTF">2020-09-20T10:34:41Z</dcterms:modified>
  <cp:revision>128</cp:revision>
  <dc:subject/>
  <dc:title>Slide 1</dc:title>
</cp:coreProperties>
</file>